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21F-9C77-465E-9206-DA524D09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6F1-7AF3-4266-9186-0A5D7BF3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180-AC1D-427F-A2EE-21F4F75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F7F-004D-47C3-8BD8-44ECD20E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9C9-76B7-40A8-BC9C-920D6E30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764-F3E5-46B4-8A1B-8BDD176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F4C-C887-4CEA-B434-6F66D94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078-56DA-41CE-8FB9-F04D4229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297-60F0-4428-B6D2-089321F9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EC5-8F49-43AB-889E-15B9EAA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AD6-D200-49E4-B984-CD4D60E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667-8BBC-44BA-8B84-98C8DF5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8E-B7E0-412D-AEA9-ECFC115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0D1E-7D20-49F9-B2A1-19A5E027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“dark side”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86200" y="1878120"/>
            <a:ext cx="4876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5-03-05T20:52:39Z</dcterms:modified>
  <cp:revision>41</cp:revision>
  <dc:subject/>
  <dc:title>Plant Growth</dc:title>
</cp:coreProperties>
</file>